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A0F-7338-4DE8-919E-AAB99A03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0D1-0207-487C-AE88-3F87DDBD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E26-F0D8-4AE4-A749-29CC7D2D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652-427A-4787-BA6E-D88944E8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C7F-80DC-46E4-8A3C-5373EC5E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D90-EABE-4D65-A4BF-79BEC2DA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C1B-A189-4BF8-8B04-D763AA4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795-28C3-436A-B713-1D3DA504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2EE1-E8D3-4477-BCA9-E004DD4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DF9-6B1E-4666-B89C-4CC9435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95C-C468-4FB5-8FB9-826126EE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812-C1B5-4521-98C4-681D2F6C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AB1-383D-4564-A583-CC21D2D95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3:49:59Z</dcterms:created>
  <dc:creator>Educator</dc:creator>
  <dc:description/>
  <dc:language>en-US</dc:language>
  <cp:lastModifiedBy>Educator</cp:lastModifiedBy>
  <dcterms:modified xsi:type="dcterms:W3CDTF">2007-08-08T04:06:30Z</dcterms:modified>
  <cp:revision>2</cp:revision>
  <dc:subject/>
  <dc:title>Slide 1</dc:title>
</cp:coreProperties>
</file>